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2888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28880" cy="34718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 and Key Messages are those phrases you want to weave into responses when you are interviewed.  You can do this through bridging – using transitional phrases to get an interview or q&amp;a session back on track and back on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(reference card which includes both talking points on one side and transitional phrases on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28880" cy="34718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 is current happenings and events that people need to know about in order to be informed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haracteristics of news includes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y – happen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ity – what is close by, local, state, regional, 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tude – what affects the most number of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 – high profile, household name, influential person, government leader, celeb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lict – over issues of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 – speaks to human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– all sides of the story, differing opi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– similar to balance, not bi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– dog bites man (not news), man bites dog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– perspective on issues of the day, usually provided by experts or professional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– especially important to figure how to tell story with photos or vide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c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28880" cy="34718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peaking to journalists – remember the FACE Formula for quotes or sound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– feelings, good quotes evoke emotion on the part of the person being inter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analysis, good quotes provide perspective on issues – give history, background context and explain what the event means going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– compelling –startling statements – ex. Scientists say harmful effects of climate change today are irreversible for the next thousand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– energy – must project energy, can’t speak monotone when talking with journalists, especially broadc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mind TV/Radio journalists are looking for 15-30 second soundbites.  Soundbites are electronic forms of direct quotes.  When speaking with print, online reporters, more at liberty to expand on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6095880" y="62485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F 400                             February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5" descr="DHS_fema_SR"/>
          <p:cNvPicPr/>
          <p:nvPr/>
        </p:nvPicPr>
        <p:blipFill>
          <a:blip r:embed="rId3"/>
          <a:stretch/>
        </p:blipFill>
        <p:spPr>
          <a:xfrm>
            <a:off x="228600" y="5754600"/>
            <a:ext cx="2286000" cy="11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29"/>
          <p:cNvSpPr/>
          <p:nvPr/>
        </p:nvSpPr>
        <p:spPr>
          <a:xfrm>
            <a:off x="6095880" y="62485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F 400                             February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3280" indent="-23328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58920" indent="-23184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9876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98760" indent="-2224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98760" indent="-2224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5400" spc="-1" strike="noStrike">
                <a:solidFill>
                  <a:srgbClr val="eff7ff"/>
                </a:solidFill>
                <a:latin typeface="Times New Roman"/>
              </a:rPr>
              <a:t>How to be a Local Spokesperson</a:t>
            </a:r>
            <a:endParaRPr b="0" lang="en-US" sz="54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Body of an Interview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Keep your message simple (save the science for Q&amp;A’s)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Rule of 3’s (stick to your top three points)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Know your audience (mom test)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Leaving a positive last impression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What’s the bottom line? Wrap it all up and put it “in a nutshell.”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Less is more, don’t overwhelm the reporter with factoids.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Make the reporter curious to want more and another story down the road!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Follow up with a personal thank you note via email or recycled paper (of course!)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944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Talking to the Media: </a:t>
            </a:r>
            <a:br>
              <a:rPr sz="4400"/>
            </a:b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What Are the Ground Rules?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TCP volunteers are encouraged and authorized to speak to the media about the</a:t>
            </a:r>
            <a:r>
              <a:rPr b="1" lang="en-US" sz="2800" spc="-1" strike="noStrike">
                <a:solidFill>
                  <a:srgbClr val="eff7ff"/>
                </a:solidFill>
                <a:latin typeface="Times New Roman"/>
              </a:rPr>
              <a:t> mission </a:t>
            </a: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eff7ff"/>
                </a:solidFill>
                <a:latin typeface="Times New Roman"/>
              </a:rPr>
              <a:t>background</a:t>
            </a: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 as well as their </a:t>
            </a:r>
            <a:r>
              <a:rPr b="1" lang="en-US" sz="2800" spc="-1" strike="noStrike">
                <a:solidFill>
                  <a:srgbClr val="eff7ff"/>
                </a:solidFill>
                <a:latin typeface="Times New Roman"/>
              </a:rPr>
              <a:t>personal involvement </a:t>
            </a: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in the project.  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All national media interviews should be coordinated and approved by HQ.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7ff"/>
                </a:solidFill>
                <a:latin typeface="Times New Roman"/>
              </a:rPr>
              <a:t>Any opinions expressed must only represent you.</a:t>
            </a: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  Remember you can’t speak for founder Al Gore or anyone other than yourself. 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Know When to Refer to HQ</a:t>
            </a:r>
            <a:endParaRPr b="0" lang="en-US" sz="40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Types of questions/inquiries to be referred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lvl="1" marL="531360" indent="-208080">
              <a:lnSpc>
                <a:spcPct val="80000"/>
              </a:lnSpc>
              <a:spcBef>
                <a:spcPts val="11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Leadership decisions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lvl="1" marL="531360" indent="-208080">
              <a:lnSpc>
                <a:spcPct val="80000"/>
              </a:lnSpc>
              <a:spcBef>
                <a:spcPts val="11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Controversial subjects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lvl="1" marL="531360" indent="-208080">
              <a:lnSpc>
                <a:spcPct val="80000"/>
              </a:lnSpc>
              <a:spcBef>
                <a:spcPts val="11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Partnership-related projects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167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Point of Contact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16720" indent="0">
              <a:lnSpc>
                <a:spcPct val="8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Carrie Anna Criado</a:t>
            </a:r>
            <a:br>
              <a:rPr sz="3200"/>
            </a:b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Communications Director</a:t>
            </a:r>
            <a:br>
              <a:rPr sz="3200"/>
            </a:b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The Climate Project</a:t>
            </a:r>
            <a:br>
              <a:rPr sz="3200"/>
            </a:b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(832) 576-6207</a:t>
            </a:r>
            <a:br>
              <a:rPr sz="3200"/>
            </a:b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carrie.criado@theclimateproject.org</a:t>
            </a:r>
            <a:br>
              <a:rPr sz="3300"/>
            </a:b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16720" indent="0">
              <a:lnSpc>
                <a:spcPct val="8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ff7ff"/>
              </a:solidFill>
              <a:latin typeface="Arial"/>
            </a:endParaRPr>
          </a:p>
          <a:p>
            <a:pPr lvl="1" marL="531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lvl="1" marL="531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Responding to Media Inquiries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Notes to take: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Who is making the request?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What is the question/context of story?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Who should respond?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Deadline for a response?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Some Things to Remember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Get reporter’s name and contact info –  report it back to HQ.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576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Only provide information within your area of expertise.</a:t>
            </a:r>
            <a:r>
              <a:rPr b="0" lang="en-US" sz="2100" spc="-1" strike="noStrike">
                <a:solidFill>
                  <a:srgbClr val="eff7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Always keep the HQ Communications Director number handy.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Be professional, factual and “stay in your lane”.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Media Interview Guidelines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87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7ff"/>
                </a:solidFill>
                <a:latin typeface="Times New Roman"/>
              </a:rPr>
              <a:t>DO…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Listen closely to questions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Make eye contact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Speak clearly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Learn transitional phrases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26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7ff"/>
                </a:solidFill>
                <a:latin typeface="Times New Roman"/>
              </a:rPr>
              <a:t>DON’T…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f7ff"/>
                </a:solidFill>
                <a:latin typeface="Times New Roman"/>
              </a:rPr>
              <a:t>Slouch or rock back and forth</a:t>
            </a:r>
            <a:endParaRPr b="0" lang="en-US" sz="3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f7ff"/>
                </a:solidFill>
                <a:latin typeface="Times New Roman"/>
              </a:rPr>
              <a:t>Use acronyms or jargon</a:t>
            </a:r>
            <a:endParaRPr b="0" lang="en-US" sz="3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f7ff"/>
                </a:solidFill>
                <a:latin typeface="Times New Roman"/>
              </a:rPr>
              <a:t>Repeat a damaging phrase</a:t>
            </a:r>
            <a:endParaRPr b="0" lang="en-US" sz="3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f7ff"/>
                </a:solidFill>
                <a:latin typeface="Times New Roman"/>
              </a:rPr>
              <a:t>Speak for anyone else but you</a:t>
            </a:r>
            <a:endParaRPr b="0" lang="en-US" sz="30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Tips for Media Interviews</a:t>
            </a:r>
            <a:endParaRPr b="0" lang="en-US" sz="40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Stay in control of interview by “bridging” – using transitional phrases to get an interview or question session back on track and back on message. 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Don’t be afraid to say “no” if you don’t know but avoid “no comment.”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Specific Media Guidelines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f7ff"/>
                </a:solidFill>
                <a:latin typeface="Times New Roman"/>
              </a:rPr>
              <a:t>Television Interviews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Dress the part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Avoid shiny or tiny print clothing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Solids work best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f7ff"/>
                </a:solidFill>
                <a:latin typeface="Times New Roman"/>
              </a:rPr>
              <a:t>Radio Interviews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Paint pictures with your word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Sound confident and in control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f7ff"/>
                </a:solidFill>
                <a:latin typeface="Times New Roman"/>
              </a:rPr>
              <a:t>Newspaper Interviews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Behave as if a microphone is on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Bring support material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f7ff"/>
                </a:solidFill>
                <a:latin typeface="Times New Roman"/>
              </a:rPr>
              <a:t>Telephone Interviews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Find out ahead of time if segment is live or taped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9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Times New Roman"/>
              </a:rPr>
              <a:t>Eliminate distractions in room where you are taking call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Arial"/>
              </a:rPr>
              <a:t>Practicing a Media Interview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pic>
        <p:nvPicPr>
          <p:cNvPr id="494" name="Picture 4" descr="MCj03526130000[1]"/>
          <p:cNvPicPr/>
          <p:nvPr/>
        </p:nvPicPr>
        <p:blipFill>
          <a:blip r:embed="rId1"/>
          <a:stretch/>
        </p:blipFill>
        <p:spPr>
          <a:xfrm>
            <a:off x="2895480" y="1676520"/>
            <a:ext cx="3033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28120" y="-360"/>
            <a:ext cx="7256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2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Emergency Exits are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Restrooms are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19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Turn pagers and cell phones </a:t>
            </a:r>
            <a:br>
              <a:rPr sz="3600"/>
            </a:b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to </a:t>
            </a:r>
            <a:r>
              <a:rPr b="0" lang="en-US" sz="3600" spc="-1" strike="noStrike" u="sng">
                <a:solidFill>
                  <a:srgbClr val="eff7ff"/>
                </a:solidFill>
                <a:uFillTx/>
                <a:latin typeface="Times New Roman"/>
              </a:rPr>
              <a:t>vibrate</a:t>
            </a:r>
            <a:r>
              <a:rPr b="0" lang="en-US" sz="2600" spc="-1" strike="noStrike">
                <a:solidFill>
                  <a:srgbClr val="eff7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Side bar conversations are discouraged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</p:txBody>
      </p:sp>
      <p:pic>
        <p:nvPicPr>
          <p:cNvPr id="454" name="Picture 4" descr="MCWB01074_0000[1]"/>
          <p:cNvPicPr/>
          <p:nvPr/>
        </p:nvPicPr>
        <p:blipFill>
          <a:blip r:embed="rId1"/>
          <a:stretch/>
        </p:blipFill>
        <p:spPr>
          <a:xfrm>
            <a:off x="3962520" y="2286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MMj02544930000[1]"/>
          <p:cNvPicPr/>
          <p:nvPr/>
        </p:nvPicPr>
        <p:blipFill>
          <a:blip r:embed="rId2"/>
          <a:stretch/>
        </p:blipFill>
        <p:spPr>
          <a:xfrm>
            <a:off x="5334120" y="1373040"/>
            <a:ext cx="1523880" cy="747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rim_bb7290_tmobile_list"/>
          <p:cNvPicPr/>
          <p:nvPr/>
        </p:nvPicPr>
        <p:blipFill>
          <a:blip r:embed="rId3"/>
          <a:srcRect l="5572" t="11106" r="6841" b="12350"/>
          <a:stretch/>
        </p:blipFill>
        <p:spPr>
          <a:xfrm>
            <a:off x="6553080" y="3429000"/>
            <a:ext cx="1032120" cy="1600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10"/>
          <p:cNvSpPr/>
          <p:nvPr/>
        </p:nvSpPr>
        <p:spPr>
          <a:xfrm>
            <a:off x="6172200" y="3352680"/>
            <a:ext cx="1905120" cy="1752840"/>
          </a:xfrm>
          <a:prstGeom prst="pie">
            <a:avLst/>
          </a:prstGeom>
          <a:gradFill rotWithShape="0">
            <a:gsLst>
              <a:gs pos="0">
                <a:srgbClr val="ff3300">
                  <a:alpha val="80000"/>
                </a:srgbClr>
              </a:gs>
              <a:gs pos="100000">
                <a:srgbClr val="761800">
                  <a:alpha val="84313"/>
                </a:srgbClr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6928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f7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Practice explaining who you are, what you do, and why you are involved with The Climate Project.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0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Prepare before you do a media interview.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0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Keep control of the interview</a:t>
            </a:r>
            <a:r>
              <a:rPr b="1" lang="en-US" sz="3200" spc="-1" strike="noStrike">
                <a:solidFill>
                  <a:srgbClr val="eff7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by learning transitional phrases.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0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Evaluate yourself afterwards to improve future performances.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308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 algn="ctr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Please take a few moments to fill out your Evaluation and hand them into the instructor.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Your input is important to us!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  <p:pic>
        <p:nvPicPr>
          <p:cNvPr id="499" name="Picture 4" descr="MCj01052220000[1]"/>
          <p:cNvPicPr/>
          <p:nvPr/>
        </p:nvPicPr>
        <p:blipFill>
          <a:blip r:embed="rId1"/>
          <a:stretch/>
        </p:blipFill>
        <p:spPr>
          <a:xfrm>
            <a:off x="2666880" y="4343400"/>
            <a:ext cx="38959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88520" y="-360"/>
            <a:ext cx="7296120" cy="105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30760" indent="-230760">
              <a:lnSpc>
                <a:spcPct val="90000"/>
              </a:lnSpc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Explain what the media looks for when identifying a news story.  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5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Describe how to make a media pitch to a reporter.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5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Identify how to prepare for and participate in a media interview.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Times New Roman"/>
              </a:rPr>
              <a:t>Demonstrate skills when participating in an interview.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8520" y="-360"/>
            <a:ext cx="72961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Introductions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Introductions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134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Your name?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134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Where you are from?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134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Your background?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lnSpc>
                <a:spcPct val="100000"/>
              </a:lnSpc>
              <a:spcBef>
                <a:spcPts val="134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Your reason for joining TCP?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Importance of Building Strong Media Relationships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Media interest is an opportunity to educate the general public.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Generate more public interest and volunteer participation in The Climate Project.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7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f7ff"/>
                </a:solidFill>
                <a:latin typeface="Times New Roman"/>
              </a:rPr>
              <a:t>Multiplier-effect (aka word of mouth)</a:t>
            </a:r>
            <a:endParaRPr b="0" lang="en-US" sz="36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What is News?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Timely – happening now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Proximity – local, state, regional, national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Magnitude – what affects most number of people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Prominence – influential person, celebrity, govt leader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Conflict – disagreements 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Drama – speaks to the human condition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Balance – another side of the story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Unusual – dog bites man (not news), man bites dog is!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Analysis – perspective provided by experts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Times New Roman"/>
              </a:rPr>
              <a:t>Visual – pictures tell the story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How to Make a Media Pitch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0760" indent="-23076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Know Who to Contact (research outlets, reporters)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Know When to Contact (timing is everything) 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Identify your peg (what makes your idea stand out to the local audience?) 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Humanize (who does this affect?  Put a face with the story)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Tie-ins (is there a local story making headlines that relates to your pitch?  Producers love segues!)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f7ff"/>
                </a:solidFill>
                <a:latin typeface="Times New Roman"/>
              </a:rPr>
              <a:t>Make contact (call, email, visit)</a:t>
            </a: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0760" indent="-230760">
              <a:lnSpc>
                <a:spcPct val="100000"/>
              </a:lnSpc>
              <a:spcBef>
                <a:spcPts val="21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892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The Anatomy of Preparing </a:t>
            </a:r>
            <a:br>
              <a:rPr sz="4400"/>
            </a:b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for a Media Interview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FACE  (soundbites)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BODY (content with substance)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99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7ff"/>
                </a:solidFill>
                <a:latin typeface="Times New Roman"/>
              </a:rPr>
              <a:t>FOOTPRINTS (last impression)</a:t>
            </a:r>
            <a:endParaRPr b="0" lang="en-US" sz="4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f7ff"/>
                </a:solidFill>
                <a:latin typeface="Times New Roman"/>
              </a:rPr>
              <a:t>What makes a great sound bite?</a:t>
            </a:r>
            <a:endParaRPr b="0" lang="en-US" sz="44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f7ff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eff7ff"/>
                </a:solidFill>
                <a:latin typeface="Arial"/>
              </a:rPr>
              <a:t>eelings  </a:t>
            </a: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(compassion, emotion)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f7ff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eff7ff"/>
                </a:solidFill>
                <a:latin typeface="Arial"/>
              </a:rPr>
              <a:t>nalysis  </a:t>
            </a: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(an amazing statistic)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f7ff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eff7ff"/>
                </a:solidFill>
                <a:latin typeface="Arial"/>
              </a:rPr>
              <a:t>ompelling  </a:t>
            </a: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(hurricane the size of TX)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24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f7ff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eff7ff"/>
                </a:solidFill>
                <a:latin typeface="Arial"/>
              </a:rPr>
              <a:t>nergy  </a:t>
            </a: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(non-monotone)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5T11:34:00Z</dcterms:created>
  <dc:creator>Project</dc:creator>
  <dc:description/>
  <cp:keywords/>
  <dc:language>en-US</dc:language>
  <cp:lastModifiedBy>GeeTV</cp:lastModifiedBy>
  <cp:lastPrinted>1995-03-28T14:35:48Z</cp:lastPrinted>
  <dcterms:modified xsi:type="dcterms:W3CDTF">2009-04-28T20:59:48Z</dcterms:modified>
  <cp:revision>106</cp:revision>
  <dc:subject/>
  <dc:title>Unit 8</dc:title>
</cp:coreProperties>
</file>